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9754-C994-470B-A636-1A0CE5DB0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8D4-AB6E-4113-937F-BBECE8BE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B13-596A-4BE0-B5DE-3312CDE6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A60-0235-4E78-A3FD-3169EAB7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AB8-28E3-46E5-B04F-B6CF7DD5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4FD-99C8-4958-9F70-68409A10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C54-31D0-408B-90FC-BF601F50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FC1-586B-430E-B8BF-B89F06A7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40D-2357-4AC8-B77C-E4EE5A1F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C5D-06C8-4A87-B75D-6BC2F16E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FF0-59E7-4D5E-A7C0-0EC148F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6FF-55A1-443F-9E59-1451E4B0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017-F7D7-4B60-BD8B-F5DD3D3B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8772-F556-4B2E-8808-B25BE48F8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s 1 - the 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rubid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caes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19320" y="31240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thium, sodium, potassium, rubidium, caesium, fran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t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utrons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ectr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,8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ced in group 1 as the atom has one electron in its outer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2120" y="33526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 – The alkali met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61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70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6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46Z</dcterms:modified>
  <cp:revision>14</cp:revision>
  <dc:subject/>
  <dc:title>Group 1, the Alkali Metals</dc:title>
</cp:coreProperties>
</file>